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97C-27A5-4098-BE9B-A5D70E8F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F8C-38FB-4795-A9CA-2565F720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72F-D1D2-4418-8FCD-6FC424F3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88E-77FC-4FA1-B052-85E0F11B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2FF-D856-4FE2-BF54-14BF3D7A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A16-B0F0-4CFA-8280-35C88879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A8F-F580-4AFC-826B-FE23060A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73F-A9B7-4135-AB91-E42B92B6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C69-0497-42D6-869D-9F1BC0C9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DE7-CC4A-47FB-8D03-2D8672E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694-445A-44FF-B1FD-E514A793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4CB-EA7B-4021-A668-F13AE62F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1925-46F0-4490-9D7F-4A538168D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skateboard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4800600"/>
            <a:ext cx="25909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57400">
            <a:off x="990360" y="1600200"/>
            <a:ext cx="6400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kate Boar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105520"/>
            <a:ext cx="693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ate Boar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9, 2010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.mit.edu/invent/iow/skateboa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Skateboard"/>
          <p:cNvPicPr/>
          <p:nvPr/>
        </p:nvPicPr>
        <p:blipFill>
          <a:blip r:embed="rId2"/>
          <a:srcRect l="6898" t="2792" r="8619" b="2860"/>
          <a:stretch/>
        </p:blipFill>
        <p:spPr>
          <a:xfrm rot="20682000">
            <a:off x="304920" y="609120"/>
            <a:ext cx="48006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Daniel Haney 50/50-ing on skateboard"/>
          <p:cNvPicPr/>
          <p:nvPr/>
        </p:nvPicPr>
        <p:blipFill>
          <a:blip r:embed="rId3"/>
          <a:srcRect l="17177" t="10048" r="16572" b="19656"/>
          <a:stretch/>
        </p:blipFill>
        <p:spPr>
          <a:xfrm>
            <a:off x="6400800" y="0"/>
            <a:ext cx="274320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5596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Alan Ollie Gelf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also invented the trick called the ollie, the ollie is a trick when it’s a leap in the air where the board stays In the flush of the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base of all tri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the kick flip, Heel flip, 50-50, tail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avorite is the 360 Fl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I hate the most would be the over crooked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also became a pro skater in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to enter the x games after he became pro but to many pros were at the x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te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acts about the skate board .The Skate board was convinced by surfing fans. who couldn’t catch the right waves at the right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4:51Z</dcterms:created>
  <dc:creator>install</dc:creator>
  <dc:description/>
  <dc:language>en-US</dc:language>
  <cp:lastModifiedBy>install</cp:lastModifiedBy>
  <dcterms:modified xsi:type="dcterms:W3CDTF">2010-03-22T16:05:17Z</dcterms:modified>
  <cp:revision>8</cp:revision>
  <dc:subject/>
  <dc:title>Slide 1</dc:title>
</cp:coreProperties>
</file>